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D008-9E69-4DFE-B6AD-066D7698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FD21-1B34-4DA2-AA3A-1C9AC7E1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2D6E-DABB-4ADD-9E0F-AF52B22F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CDFA-B462-4471-8AF1-B7F968E1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6E06-C798-4DD4-95D8-92C639F8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293-72C1-4DDB-8BE8-A962FAF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192A-46C8-4547-B8FE-7FB0D40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2163-448A-40D2-AF98-6EAC2F4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715D-B128-473E-89F7-1C7C155A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01F9-49BC-4EE3-BF9A-1F900BF6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7437-9ECA-4854-AB47-C737CDFD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DAAD-F10F-46DC-BA56-B3EB54DE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4380-A907-446B-90DE-0ED98AD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88A4-5991-4386-8859-E089B589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EFFC-2079-41B0-ADB4-4B18AD18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08E6-F9D5-44B3-873B-B9D17126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4D09-7CDA-45C7-A599-85176E25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2FA1-61E7-4F4B-80E5-7AF293C1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7FE1-35C9-4FF7-ADFD-2CB055E8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BA9E-95A4-4C9C-8A80-773EB5B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C6A7-981B-440B-A298-6B3234A5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A3E1-7815-466B-BC8A-6393E2C1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2D10-86D6-4506-BFB7-B89BCE8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B3F0-D2E4-4589-B4FD-8FC6F3A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1B2A-3EA9-4246-A1BD-4B7B183DE5E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C1F1-AB99-4F67-89F4-9F50BBCDB87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3464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люлката Ти Си бил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гдашен наш Пазител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с нежност Си любил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верен Си Спасител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с душа, сърц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насяме Ти д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бръщаме лиц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Твоя свят олт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423720"/>
            <a:ext cx="914400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би Ти вечно тук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танал все при нас Ти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Твоя мощен Дух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зло да ни паз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ъката Си над н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стирай Ти с любо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га и всеки час 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е чуем Твоя з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341280"/>
            <a:ext cx="914400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вала ще пеем ни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войто име свято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олове, планин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дин Си Цар в небето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- без начало, кр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 Господ всемогъщ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мрак и в светъл р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век един и съ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9T15:32:33Z</dcterms:modified>
  <cp:revision>5</cp:revision>
  <dc:subject/>
  <dc:title>Slide 1</dc:title>
</cp:coreProperties>
</file>